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media/image5.wmf" ContentType="image/x-wmf"/>
  <Override PartName="/ppt/media/image6.png" ContentType="image/png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A7D20-489C-466B-B860-7BFEA37EF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0F43D-7122-4536-96C6-9EA2B7AA7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30BEA-B780-4E44-B4A3-69971AF74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0F9D3-E787-4111-805E-B0890E4C3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9E888-7FAA-4934-9CD7-31EA988B1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7C624-CD0A-49D4-95CC-B9D119AD7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B12E9-4EAE-402E-BBE8-EF250878C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EC091-5EBB-41D9-947F-64C9DB8DD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3C45E-9EA3-4D43-80A1-196568620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BB42F-4CCB-4FC1-A52B-1D2DA25FA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ECEE8-5F70-44F0-A872-C64719745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6F4E9-8E72-4C8A-BC98-D4AD1F86A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AD086-19E6-4C95-8147-ACD4E90A48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esson 1.3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valuating Express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1905120"/>
            <a:ext cx="8899560" cy="14396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971800" y="2362320"/>
            <a:ext cx="59436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to replace each variable in an expression with a number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and then follow the order of oper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371600" y="1523880"/>
            <a:ext cx="579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bjective 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Evaluating Variable Expres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52280" y="228600"/>
            <a:ext cx="8763120" cy="113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457200"/>
            <a:ext cx="8686800" cy="6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380880"/>
            <a:ext cx="8988480" cy="32511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2438280" y="1219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086600" y="129528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62120" y="28954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809880" y="289548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705720" y="289548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5800" y="5105520"/>
            <a:ext cx="586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y questions from objective 1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488880"/>
            <a:ext cx="8915400" cy="37782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3733920" y="1523880"/>
            <a:ext cx="6094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66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66"/>
                </a:solidFill>
                <a:latin typeface="Arial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809880" y="18288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24382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1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600200" y="32004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886200" y="36576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9480" y="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bjective 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Solving Problems by Evaluating Expres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22400" y="457200"/>
            <a:ext cx="8899200" cy="528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991720" cy="330192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685800" y="1600200"/>
            <a:ext cx="487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21c , $1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04920" y="5638680"/>
            <a:ext cx="739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y questions from objective 2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47176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609480" y="6019920"/>
            <a:ext cx="464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Homewor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9T19:49:07Z</dcterms:created>
  <dc:creator>Susannah Graham</dc:creator>
  <dc:description/>
  <dc:language>en-US</dc:language>
  <cp:lastModifiedBy>Graham</cp:lastModifiedBy>
  <dcterms:modified xsi:type="dcterms:W3CDTF">2011-08-18T12:56:06Z</dcterms:modified>
  <cp:revision>3</cp:revision>
  <dc:subject/>
  <dc:title>Lesson 1.3 Evaluating Expressions</dc:title>
</cp:coreProperties>
</file>